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C848B-356E-4107-B94F-BD4835B5C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08B5B-F6C1-46A9-8973-C5D1B6567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D99E2-B926-4CD8-8A19-9CBC1CF2B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5BD42-92CC-45B6-AE81-49B882A79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ADE12-305C-43E0-965A-5D522576F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5DA17-3F50-42F4-8385-6018F2CC7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AB107-752D-4A3B-AA6B-872CC28D0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3FE3F-9306-4943-A5F7-B190146F9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365B5-4353-4F49-B366-4BC140A53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9981A-11CD-4099-A62B-04E4DDA0B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183D4-3318-4679-9BDF-DFD02CA71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7FB09-1D65-4B08-90E4-F4EED1E17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F6D20-F28D-4987-A319-D603FEA6C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8B3DE-C4D5-4AD6-9172-3B795AE2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BBBB4-0AA3-49BE-838B-A7FB92CDA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50C2D-7409-4EFB-9DCD-BC2FE5DEF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E7324-6F0E-4D6B-910B-814D91F87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6C6E4-DE1C-40DD-A434-DEFD71F66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ABF53-5054-4EA4-A25E-AD3C45F16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3A900-9998-47BE-B574-10692542B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0F338-0319-41FC-A658-F21C2AA1E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84627-08EC-4559-BCDE-735D935AA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679FD-4419-48D2-B00D-CA66730C5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E131B-4FCC-4B30-9B85-F6F72EE79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14017-80D3-4E2D-80FC-6BC91CA0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0DDBC-5C35-4897-82AE-B69A8645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98467-F382-4901-BEDA-98C7A2B1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77E3A-5F9C-4681-B246-8B33B8322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8F874-DD23-471A-8F86-C88081008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A964C-DBEB-4F36-87CF-5AAB61CD7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480A5-976B-4D99-ABF9-325B514AD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6D042-6466-41A5-B4F1-4DBD5DA5C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3EFD0-F20F-43C5-B89B-3B43520D0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52316-1AA0-440A-9B5F-0B956E11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0567A-A7A1-4572-B026-AAABAEC1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A1102-3F64-4028-82D0-E00FABA4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316EC-B315-46EF-9AB1-F27137E39A0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0930A-7676-4CFD-80A3-34AEBE8A458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0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0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0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0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0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0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0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07DB8-D0CD-4AA2-A97D-8A553DDB4FF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U.S. Policies Affecting Food and Agricultural Marketing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lter J. Armbrus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nald D. Knuts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EVOLUTION OF AGRICULTURAL AND FOOD MARKETS</a:t>
            </a:r>
            <a:br>
              <a:rPr sz="5400"/>
            </a:br>
            <a:br>
              <a:rPr sz="5400"/>
            </a:br>
            <a:br>
              <a:rPr sz="54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Walter J. Armbruster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onald D. Knutson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ole of marketing policies and program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rketing of agricultural and food products takes place within the framework of a set of federal policies and progra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se policies and programs influence the production and terms of trade throughout the agriculture and food marketing syst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 markets evolve, policies and programs need to adju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gricultural and Food Market Evolu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ot markets to central marke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rect marketing to forward pricing and vertical integr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sumerism to reg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lobalization to value-chain market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riteria for Evaluating Performance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echnical efficiency exists when production occurs at minimum cos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locative efficiency involves the allocation of scarce resources among products, production activities, and uses to maximize welfa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ynamic efficiency measures how well markets innovate to adjust/adapt to change over tim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riteria for Evaluating Performance (cont.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nmarket social valu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tributive justice, or redistribution of wealth and economic benefits generated by the private sector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alues driven by various interest group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erit goods such as food safety, nutrition and health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3T03:39:48Z</dcterms:created>
  <dc:creator>Walt</dc:creator>
  <dc:description/>
  <dc:language>en-US</dc:language>
  <cp:lastModifiedBy>Walt</cp:lastModifiedBy>
  <cp:lastPrinted>2012-01-30T14:40:42Z</cp:lastPrinted>
  <dcterms:modified xsi:type="dcterms:W3CDTF">2012-06-05T16:28:18Z</dcterms:modified>
  <cp:revision>63</cp:revision>
  <dc:subject/>
  <dc:title>U.S. Policies Affecting Food and Agricultural Marketing</dc:title>
</cp:coreProperties>
</file>